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466-C89E-4757-986B-39110DFB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778F-0E54-4C52-875F-77CB58F0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9C6-4388-4EC4-8705-D69060C2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20F-13C3-4386-A0FE-6D5DAF39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7A1A-B376-4225-9EB8-D6DB1876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FB7D-F6F7-47B8-A36B-0F319AD5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84DA-9E14-4D8F-8E48-885648B5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A6EF-C22F-4EB6-8EF1-E1C2A0C7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B86F-25A0-4A3D-8544-D159FCAA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9809-009F-4C01-B0EF-2AA55161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5818-00C0-41C9-AF1A-DFAA06FA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48F-CB0E-4171-A849-F6D23807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C534-A114-4DDA-BAFA-F43F0D85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979E-38B8-4775-B204-02A7B5B9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4FC2-01F1-4325-9302-345E0ADF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2E80-3A6C-4BB5-B6B8-C67EB84A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7BF0-114A-4966-B743-7E16C6DE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67C22-250B-4CDC-A217-79A6AB63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CC166-9F18-4403-B890-CE75BA9D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18049-BBED-42B1-A1B1-D7374B38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6653-573C-4223-9E68-1125E8A4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F7A70-D8D0-455F-8A9C-C8909F60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24E-C689-4CFD-89FC-1FC54541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044BB-F70F-4493-80C8-15068199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52D8D-E35F-4745-9345-5212495E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FD23-C82E-4D01-A10E-84C812FB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44BE8-9ABC-49F7-ADBC-E63E3B2D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BCA2-90DB-4542-9B50-B80B65AD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33ED1-822F-44DF-96B9-27CA6206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2DFBA-EEFC-42A9-BF64-829F10BC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A4884-5D89-4DDB-B137-361A654C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1FE86-4646-4D0E-8872-092A0AFD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98C8B-4C24-4E6A-AD69-9F1BE297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BB7-572E-4A2B-80D8-332B0213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DB485-0DF4-49FE-9457-119C42F9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E8A96-87EA-4EE2-9783-AD1BFAD1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09D9F-3859-4011-8DF1-D1E89140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AFF42-90AB-4155-A75D-CEBAE2B1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F48CD-9B1A-421B-AC95-02A5CC8B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44F11-E36E-4864-B170-B2034720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FBDBE-F8E4-4423-AD7A-A65EA204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E0536-E28A-4A22-9818-BFCEE5E6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1A43B-FFED-4358-9387-9AC29FB3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64353-F94E-4A32-B264-DCB5476D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71B-1426-4C59-A5B9-800883EF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421CA-D165-418B-9601-05FBAFBE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1B995-5F6A-4828-9AF7-31BE03AA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B03A8-B984-43E9-816D-015A21C0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363EF-E8DD-4B63-A2FA-AAA37D68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B31E0-6586-4922-A2E1-532F3757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431B1-4B5A-485B-96DA-522B0023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C0C2B-AFFC-470E-A22B-48925375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40B48-DD40-4132-938F-04338015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00F8D-657D-4025-8315-FEF08326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3BCD7-EF4C-48F0-88B3-DD368CDA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FDC-2846-4DFA-807D-40C0BD4E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4853B-C3D8-43BD-A257-4D5C14CF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3DCAC-9049-49AE-B8DC-63B80228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37768-8A64-4151-9F57-DB800B89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C378D-3EF9-4171-A61C-E1C1C239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46F6A0-31B9-4313-8BCF-9A160A04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7D8F88-0638-4D11-8937-E1ACB2F2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40D0E0-564D-4274-956D-6E0C9B36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34DB3-1718-4D76-AEC5-FF5FF4C9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58AD75-BE5F-4628-AAB1-50DDA392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F2B63-6F20-410B-973E-DE2A9B3C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BED-5C9B-470F-83FD-C35BE758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F82F8E-4B22-4938-A518-7ED70124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FD950D-5E4F-403B-869E-CD8CEF29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0FF23-CC14-40FB-8B96-B21C9BA9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04CBE-C48A-44C6-9638-86A3989C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9D3FA-E598-461F-A817-7682AC00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2091E-F4AA-4008-8CA9-062DB678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A8670-2820-45D7-B18D-8E64FF24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15531-D7D3-4B1E-922E-2B4AE589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3D776-2837-4C14-9E65-11D70AAE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EFE42-500C-4F4C-8E99-E41D0295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356-14C7-4FB3-A837-85933D5C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987FF-07D7-48BE-9B19-0520C33B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47377-14F5-49BD-9FB8-B9426A6A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D043C-E50F-4E5B-85DB-BE1124DE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06C0B-6821-4074-B6E5-B857B75B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3752B-0730-44CB-B92C-414D93BF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C17D-0670-42E0-8595-A3F25C90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32AD-6DB3-4A0C-98A5-545F8DF2C0AF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6962-DC07-49A0-86FF-B4A70C75B9AF}" type="slidenum">
              <a:rPr b="0" lang="ru-RU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2A65-F7A8-4BBF-96AF-AE75872D1438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AD3F-4B4B-483A-869F-304F33064637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7EBF-BBAD-4BE3-85A6-435276DBBBAE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897C-9563-4ABA-9F99-5670D3E1B986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FE70-4274-4E15-91CF-0481B3BF450D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749160" y="314172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64b3c"/>
                </a:solidFill>
                <a:latin typeface="Century Gothic"/>
                <a:ea typeface="Calibri"/>
              </a:rPr>
              <a:t>СОСТАВИТЕЛИ: </a:t>
            </a: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  <a:ea typeface="Calibri"/>
              </a:rPr>
              <a:t>МЕТЛИКИНА ЕКАТЕРИНА ИВАНОВНА МАДОУ» ДЕТСКИЙ САД №34» Г.РЯЗАНЬ, </a:t>
            </a: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  <a:ea typeface="Calibri"/>
              </a:rPr>
              <a:t>САФОНОВА НИНА НИКОЛАЕВНА МАДОУ«ДЕТСКИЙ САД №34» Г.РЯЗАНЬ, </a:t>
            </a: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  <a:ea typeface="Calibri"/>
              </a:rPr>
              <a:t>ЧИЖИКОВА ТАТЬЯНА АЛЕКСЕЕВНА МБДОУ«ДЕТСКИЙ САД №32» Г.РЯЗАНЬ.</a:t>
            </a: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2018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. </a:t>
            </a:r>
            <a:endParaRPr b="0" lang="en-US" sz="1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7534c"/>
                </a:solidFill>
                <a:latin typeface="Book Antiqua"/>
              </a:rPr>
              <a:t>КАКИЕ  БЫВАЮТ ЖИЛИЩА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3" name="Рисунок 4" descr=""/>
          <p:cNvPicPr/>
          <p:nvPr/>
        </p:nvPicPr>
        <p:blipFill>
          <a:blip r:embed="rId1"/>
          <a:stretch/>
        </p:blipFill>
        <p:spPr>
          <a:xfrm>
            <a:off x="7740720" y="3479760"/>
            <a:ext cx="863640" cy="139392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3"/>
          <p:cNvSpPr/>
          <p:nvPr/>
        </p:nvSpPr>
        <p:spPr>
          <a:xfrm>
            <a:off x="468360" y="230652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86c71"/>
                </a:solidFill>
                <a:latin typeface="Century Gothic"/>
                <a:ea typeface="Times New Roman"/>
              </a:rPr>
              <a:t>Занятие по познавательному развит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86c71"/>
                </a:solidFill>
                <a:latin typeface="Century Gothic"/>
                <a:ea typeface="Times New Roman"/>
              </a:rPr>
              <a:t>для детей подготовитель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ИГЛ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6" name="Объект 3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5670720" cy="42609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5"/>
          <p:cNvSpPr/>
          <p:nvPr/>
        </p:nvSpPr>
        <p:spPr>
          <a:xfrm>
            <a:off x="6300720" y="2716200"/>
            <a:ext cx="2544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Из ледяных и снежных глыб сооружают свои жилища канадские эскимо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Внутри иглу помещается лежанка из снега, покрытая шку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ЧУМ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9" name="Объект 3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5037120" cy="37767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4"/>
          <p:cNvSpPr/>
          <p:nvPr/>
        </p:nvSpPr>
        <p:spPr>
          <a:xfrm>
            <a:off x="468360" y="2708280"/>
            <a:ext cx="30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Оленеводы сооружают себе временное жилище, которое называют чум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Чум строят в форме конуса из множества деревянных шестов, которые сверху накрывают оленьими шку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ЮРТ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2" name="Объект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5662800" cy="43732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4"/>
          <p:cNvSpPr/>
          <p:nvPr/>
        </p:nvSpPr>
        <p:spPr>
          <a:xfrm>
            <a:off x="6300720" y="2708280"/>
            <a:ext cx="2592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Юрта издавна служила жилищем для жителей степ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По форме она напоминает чум, только вместо оленьих шкур накрывается войлоком или грубой шерстян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ВИГВАМ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5" name="Объект 3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3279960" cy="4373280"/>
          </a:xfrm>
          <a:prstGeom prst="rect">
            <a:avLst/>
          </a:prstGeom>
          <a:ln w="0">
            <a:noFill/>
          </a:ln>
        </p:spPr>
      </p:pic>
      <p:sp>
        <p:nvSpPr>
          <p:cNvPr id="346" name="TextBox 4"/>
          <p:cNvSpPr/>
          <p:nvPr/>
        </p:nvSpPr>
        <p:spPr>
          <a:xfrm>
            <a:off x="755640" y="285264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Дом североамериканских индейцев называют вигва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По форме вигвам похож на чум и юрту, но сверху индейцы обтягивали его шкурами биз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ФАНЗ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8" name="Объект 3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5651280" cy="39402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4"/>
          <p:cNvSpPr/>
          <p:nvPr/>
        </p:nvSpPr>
        <p:spPr>
          <a:xfrm>
            <a:off x="6443640" y="2421000"/>
            <a:ext cx="23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Фанза – крестьянское жилище в Китае, Корее и в некоторых других стра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Сооружается оно из камня, или кирпича на каркасе из деревянных стол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САКЛ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2917800" y="1844640"/>
            <a:ext cx="5830920" cy="437364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/>
          <p:cNvSpPr/>
          <p:nvPr/>
        </p:nvSpPr>
        <p:spPr>
          <a:xfrm>
            <a:off x="395280" y="2565360"/>
            <a:ext cx="223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На Кавказе в горных деревнях можно встретить жилище, которое называют сак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Для постройки такого дома обычно используют камни, кирпич и гл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ХАТ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4" name="Объект 5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5715000" cy="40672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6"/>
          <p:cNvSpPr/>
          <p:nvPr/>
        </p:nvSpPr>
        <p:spPr>
          <a:xfrm>
            <a:off x="6300720" y="3141720"/>
            <a:ext cx="25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Хату строят из дерева, камня или кирпича, обмазывают глиной, а потом бел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ИЗБ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7" name="Объект 7" descr=""/>
          <p:cNvPicPr/>
          <p:nvPr/>
        </p:nvPicPr>
        <p:blipFill>
          <a:blip r:embed="rId1"/>
          <a:stretch/>
        </p:blipFill>
        <p:spPr>
          <a:xfrm>
            <a:off x="3349800" y="2133720"/>
            <a:ext cx="5398920" cy="4047840"/>
          </a:xfrm>
          <a:prstGeom prst="rect">
            <a:avLst/>
          </a:prstGeom>
          <a:ln w="0">
            <a:noFill/>
          </a:ln>
        </p:spPr>
      </p:pic>
      <p:sp>
        <p:nvSpPr>
          <p:cNvPr id="358" name="TextBox 8"/>
          <p:cNvSpPr/>
          <p:nvPr/>
        </p:nvSpPr>
        <p:spPr>
          <a:xfrm>
            <a:off x="395280" y="2060640"/>
            <a:ext cx="280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Раньше в крестьянской России большая часть населения жила в этом прочном, теплом доме из бревен и бруса. Когда строили избу, бревна клали одно на другое очень плотно, а щели конопатили сухим мх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Крыши обычно крыли тесом – тонкими доще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6T10:27:10Z</dcterms:created>
  <dc:creator>user</dc:creator>
  <dc:description/>
  <dc:language>en-US</dc:language>
  <cp:lastModifiedBy>Елена В. Лапкина</cp:lastModifiedBy>
  <dcterms:modified xsi:type="dcterms:W3CDTF">2018-03-16T07:14:29Z</dcterms:modified>
  <cp:revision>12</cp:revision>
  <dc:subject/>
  <dc:title>Какие бывают дома</dc:title>
</cp:coreProperties>
</file>