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C543-C6A2-4F21-8D6F-5FB05F64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92D-6355-40DE-9CA2-C41375F2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48C-538E-46AF-9069-0EE7D588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29FF-8574-4F08-BFD3-3B643972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0478-BA33-4E7D-9409-BCD6FF48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7996-7863-4961-9EFF-B62A8619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8470-9EEE-4D6C-A79B-295C71AD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8096-2EBE-424E-AE3A-A843539A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2619-A309-4DB3-8382-9B673A42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57FB-EA6D-4F22-B513-E35DA6B9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09EA-50C9-45C7-B439-FA3596DD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72D4-1256-4A85-A30E-61ED7196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2270-4CA4-4925-9FC7-F11070F7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F8F0-4AFC-4D1E-9C8E-E77044F5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C3DD-8D9D-4423-A41A-44074210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FD3D-F948-4596-A964-E686AF76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2074-3677-4966-8A26-1D460281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8E7A7-A6B4-462C-910B-8F80F2B0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6B811-1AF3-49FA-B20D-7B93652A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6C4FC-1D34-4CEE-B633-79C27BEE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49248-7379-489A-8BF3-3AEA8583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E412F-CF8C-4002-8851-E730AD8E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650-3C8F-4B28-B652-4B3694C4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70513-5EAE-45A3-B5B0-B48D74E2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EA218-6B41-4657-8C8A-02988DA8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E9DC0-9E5E-4982-874F-97D400E0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B1ADD-2304-4825-B072-D5A723DB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64D4-51CA-46A2-AC4A-FC8CD6F8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D4713-F64B-4CC4-B18B-4FE880F2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BF45-33C9-45D8-B155-437D0177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986E2-1408-4649-AD38-58440AD5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59E82-662C-4100-BAD5-F32F7E55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20F1F-C516-4373-B734-23ECAEA3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E6C-227B-4B03-9B83-C3A36CAD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8FC26-8DA6-4EBC-A62F-25DE80FB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A762A-5B55-48B5-A358-19761188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87451-2C51-45E1-B132-3EB1EF86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969EC-488F-4326-994D-F98672EE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E4479-D9B2-4490-8E31-B737CEA1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F6C5-CC8A-4689-973D-F1455236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F784E-AD1D-4A4A-BBE2-DCD4496B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9D74A-A5E2-4916-883E-145B9E7A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E2E85-CBB8-420C-A53A-31CA958D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28D0C-E2AF-49E1-9331-B17D409C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60E-BDA4-484D-830E-60E7624D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0E090-F1F1-4CF1-9325-9C064609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7E9AE-4F5B-4356-876A-C5233768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F1037-C203-4ADB-8047-6FF97A12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9D41A-CD3F-4F92-B725-90DDDFAD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79893-53B6-4666-86DF-A00DCC37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7841-CBB8-4F5F-AE06-43CD6822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8244B-2265-4ECB-BCF8-9BAB60CC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1F427-5731-46D2-A835-CA473EC9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5383C-ADFC-4855-AC46-95F83264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B37D4-4C63-4048-8F85-E781E1F9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2E1-773D-4524-9223-9AEB8D6F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20ECA-E2C0-4BD9-B416-D433FAA5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D76FCE-AD35-40E6-A4B2-43528680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372EE5-C3C2-4C7B-8ED1-7A171603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23617-1E88-4F3B-9CC2-49D893A5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4AF69-75A4-439D-8EBA-BF66AF88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3C113-56EE-4BA0-9B82-4C033D86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A53511-1EC4-4C0C-A314-128712B8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267794-29C3-4CD1-BFC4-2166A1B0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5BF07D-05FB-4923-8D40-3D1720DA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6A114-428D-4927-B35A-6D56E3AA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089-352C-44D0-8CD0-D28EAD64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72BBD-0459-4476-AD82-1999CC50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06DB7-8E87-4741-8B28-8A646CA2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9A2C1A-4C3F-49F6-9C1A-02CF38F0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2A941-F7A2-4103-BAB5-75FF46C2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540F7-5E2F-4C76-ABF0-FEFE2A7D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148D9-5FE2-4592-A0F5-23C0BA1D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30A3B-B6D9-4D39-A652-5F83BE40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A1AFA-1A76-4CB4-9741-EE284DDC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197DF-E49A-4950-BEAC-7ED9339A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89783-23E0-4FE4-B14C-456DD77C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40B-0ABC-4253-A363-98A6D63D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1B604-F120-478D-906E-A40ABCF1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3DD07-787B-43B4-AD3D-A627A8AE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F2BA1-8C44-4F67-BDC4-2931158B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F53A0-1670-49CB-A273-5FCF5D59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54438-022D-41BC-B290-BE8514BF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263-107E-4B19-93C0-4C9A3580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26E3-8899-468E-ABC3-7AEADE47A70B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F931-141D-4FA3-8EDC-3DD5EB95722F}" type="slidenum">
              <a:rPr b="0" lang="ru-RU" sz="2800" spc="-1" strike="noStrike">
                <a:solidFill>
                  <a:srgbClr val="47534c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D4D7-DC7D-4FB9-BF87-E9C2595B1186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5CAC-291C-42ED-BFEF-97120A80BF36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153D-17C3-4B48-8613-62595D1C4C7A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1F4C-8BEB-43AE-A86A-3C0C66653F9D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2036-A02D-4B6D-9FF0-7D149A944FAD}" type="slidenum">
              <a:rPr b="0" lang="ru-RU" sz="1200" spc="-1" strike="noStrike">
                <a:solidFill>
                  <a:srgbClr val="564b3c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749160" y="314172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64b3c"/>
                </a:solidFill>
                <a:latin typeface="Century Gothic"/>
                <a:ea typeface="Calibri"/>
              </a:rPr>
              <a:t>СОСТАВИТЕЛИ: </a:t>
            </a: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  <a:ea typeface="Calibri"/>
              </a:rPr>
              <a:t>МЕТЛИКИНА ЕКАТЕРИНА ИВАНОВНА МАДОУ» ДЕТСКИЙ САД №34» Г.РЯЗАНЬ, </a:t>
            </a: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  <a:ea typeface="Calibri"/>
              </a:rPr>
              <a:t>САФОНОВА НИНА НИКОЛАЕВНА МАДОУ«ДЕТСКИЙ САД №34» Г.РЯЗАНЬ, </a:t>
            </a: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4b3c"/>
                </a:solidFill>
                <a:latin typeface="Century Gothic"/>
                <a:ea typeface="Calibri"/>
              </a:rPr>
              <a:t>ЧИЖИКОВА ТАТЬЯНА АЛЕКСЕЕВНА МБДОУ«ДЕТСКИЙ САД №32» Г.РЯЗАНЬ.</a:t>
            </a: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2018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64b3c"/>
                </a:solidFill>
                <a:latin typeface="Century Gothic"/>
                <a:ea typeface="Times New Roman"/>
              </a:rPr>
              <a:t>. </a:t>
            </a:r>
            <a:endParaRPr b="0" lang="en-US" sz="1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7534c"/>
                </a:solidFill>
                <a:latin typeface="Book Antiqua"/>
              </a:rPr>
              <a:t>КАКИЕ  БЫВАЮТ ЖИЛИЩА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3" name="Рисунок 4" descr=""/>
          <p:cNvPicPr/>
          <p:nvPr/>
        </p:nvPicPr>
        <p:blipFill>
          <a:blip r:embed="rId1"/>
          <a:stretch/>
        </p:blipFill>
        <p:spPr>
          <a:xfrm>
            <a:off x="7740720" y="3479760"/>
            <a:ext cx="863640" cy="139392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3"/>
          <p:cNvSpPr/>
          <p:nvPr/>
        </p:nvSpPr>
        <p:spPr>
          <a:xfrm>
            <a:off x="468360" y="230652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86c71"/>
                </a:solidFill>
                <a:latin typeface="Century Gothic"/>
                <a:ea typeface="Times New Roman"/>
              </a:rPr>
              <a:t>Занятие по познавательному развит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86c71"/>
                </a:solidFill>
                <a:latin typeface="Century Gothic"/>
                <a:ea typeface="Times New Roman"/>
              </a:rPr>
              <a:t>для детей подготовитель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ГЛ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6" name="Объект 3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5670720" cy="42609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5"/>
          <p:cNvSpPr/>
          <p:nvPr/>
        </p:nvSpPr>
        <p:spPr>
          <a:xfrm>
            <a:off x="6300720" y="2716200"/>
            <a:ext cx="254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Из ледяных и снежных глыб сооружают свои жилища канадские эскимо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Внутри иглу помещается лежанка из снега, покрытая шку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ЧУМ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39" name="Объект 3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5037120" cy="37767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4"/>
          <p:cNvSpPr/>
          <p:nvPr/>
        </p:nvSpPr>
        <p:spPr>
          <a:xfrm>
            <a:off x="468360" y="2708280"/>
            <a:ext cx="309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Оленеводы сооружают себе временное жилище, которое называют чум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Чум строят в форме конуса из множества деревянных шестов, которые сверху накрывают оленьими шку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ЮРТ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2" name="Объект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5662800" cy="43732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4"/>
          <p:cNvSpPr/>
          <p:nvPr/>
        </p:nvSpPr>
        <p:spPr>
          <a:xfrm>
            <a:off x="6300720" y="2708280"/>
            <a:ext cx="2592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Юрта издавна служила жилищем для жителей степ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По форме она напоминает чум, только вместо оленьих шкур накрывается войлоком или грубой шерстян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ВИГВАМ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3279960" cy="437328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755640" y="285264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Дом североамериканских индейцев называют вигва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По форме вигвам похож на чум и юрту, но сверху индейцы обтягивали его шкурами бизо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ФАНЗ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48" name="Объект 3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5651280" cy="3940200"/>
          </a:xfrm>
          <a:prstGeom prst="rect">
            <a:avLst/>
          </a:prstGeom>
          <a:ln w="0">
            <a:noFill/>
          </a:ln>
        </p:spPr>
      </p:pic>
      <p:sp>
        <p:nvSpPr>
          <p:cNvPr id="349" name="TextBox 4"/>
          <p:cNvSpPr/>
          <p:nvPr/>
        </p:nvSpPr>
        <p:spPr>
          <a:xfrm>
            <a:off x="6443640" y="2421000"/>
            <a:ext cx="237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Фанза – крестьянское жилище в Китае, Корее и в некоторых других стра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Сооружается оно из камня, или кирпича на каркасе из деревянных стол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САКЛ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2917800" y="1844640"/>
            <a:ext cx="5830920" cy="437364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/>
          <p:cNvSpPr/>
          <p:nvPr/>
        </p:nvSpPr>
        <p:spPr>
          <a:xfrm>
            <a:off x="395280" y="2565360"/>
            <a:ext cx="223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На Кавказе в горных деревнях можно встретить жилище, которое называют сак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Для постройки такого дома обычно используют камни, кирпич и гл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ХАТ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4" name="Объект 5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5715000" cy="40672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6"/>
          <p:cNvSpPr/>
          <p:nvPr/>
        </p:nvSpPr>
        <p:spPr>
          <a:xfrm>
            <a:off x="6300720" y="3141720"/>
            <a:ext cx="25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Хату строят из дерева, камня или кирпича, обмазывают глиной, а потом беля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ИЗБА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57" name="Объект 7" descr=""/>
          <p:cNvPicPr/>
          <p:nvPr/>
        </p:nvPicPr>
        <p:blipFill>
          <a:blip r:embed="rId1"/>
          <a:stretch/>
        </p:blipFill>
        <p:spPr>
          <a:xfrm>
            <a:off x="3349800" y="2133720"/>
            <a:ext cx="5398920" cy="4047840"/>
          </a:xfrm>
          <a:prstGeom prst="rect">
            <a:avLst/>
          </a:prstGeom>
          <a:ln w="0">
            <a:noFill/>
          </a:ln>
        </p:spPr>
      </p:pic>
      <p:sp>
        <p:nvSpPr>
          <p:cNvPr id="358" name="TextBox 8"/>
          <p:cNvSpPr/>
          <p:nvPr/>
        </p:nvSpPr>
        <p:spPr>
          <a:xfrm>
            <a:off x="395280" y="2060640"/>
            <a:ext cx="280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Раньше в крестьянской России большая часть населения жила в этом прочном, теплом доме из бревен и бруса. Когда строили избу, бревна клали одно на другое очень плотно, а щели конопатили сухим мх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Крыши обычно крыли тесом – тонкими доще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6T10:27:10Z</dcterms:created>
  <dc:creator>user</dc:creator>
  <dc:description/>
  <dc:language>en-US</dc:language>
  <cp:lastModifiedBy>Елена В. Лапкина</cp:lastModifiedBy>
  <dcterms:modified xsi:type="dcterms:W3CDTF">2018-03-16T07:14:29Z</dcterms:modified>
  <cp:revision>12</cp:revision>
  <dc:subject/>
  <dc:title>Какие бывают дома</dc:title>
</cp:coreProperties>
</file>