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EBA-157B-4B4D-948F-E4AC65BC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5E1-16D4-4893-9A98-FE5972BE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EFC-3934-4BA2-9096-8EAB4091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F83-5928-4DEC-9ED5-BFE64FB7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F4F-9BE8-4D19-B8AD-1371F4A3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653-23B0-43BA-B6A1-3515E688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5CF-C34E-4896-A2AE-442B9A5A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6F8-2E84-43D7-A55B-63FE3C6E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A31-A9B0-43CA-BC0D-42FA3E70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F02-4ABE-4704-A2FA-3A7A4AD1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912-7C34-4B76-A04F-75545AB7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E91-533B-441E-BD16-35E44A46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9D92-D2C0-456F-B894-C5136A0762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nsportal.ru/sites/default/files/2019/01/29/kartinki_rechnye_ryby.docx" TargetMode="External"/><Relationship Id="rId2" Type="http://schemas.openxmlformats.org/officeDocument/2006/relationships/hyperlink" Target="https://fishingday.org/shhuka/" TargetMode="External"/><Relationship Id="rId3" Type="http://schemas.openxmlformats.org/officeDocument/2006/relationships/hyperlink" Target="https://pic.rutubelist.ru/video/db/e2/dbe2b3c1992906c705dd0d6464ac5f86.jpg" TargetMode="External"/><Relationship Id="rId4" Type="http://schemas.openxmlformats.org/officeDocument/2006/relationships/hyperlink" Target="https://www.culture.ru/events/3175336/lovis-rybka-bolshaya-i-malenkaya-konkurs-yunykh-rybakov?institute=49678" TargetMode="External"/><Relationship Id="rId5" Type="http://schemas.openxmlformats.org/officeDocument/2006/relationships/hyperlink" Target="https://i.pinimg.com/736x/cb/fd/81/cbfd812835cf5ee4ad0f446f40112740.jpg" TargetMode="External"/><Relationship Id="rId6" Type="http://schemas.openxmlformats.org/officeDocument/2006/relationships/hyperlink" Target="https://i.pinimg.com/originals/45/dd/e4/45dde4b99ef3d4f3d11ea23407f636ec.jpgg" TargetMode="External"/><Relationship Id="rId7" Type="http://schemas.openxmlformats.org/officeDocument/2006/relationships/hyperlink" Target="https://ppt-online.org/1107133" TargetMode="External"/><Relationship Id="rId8" Type="http://schemas.openxmlformats.org/officeDocument/2006/relationships/hyperlink" Target="https://media.gettyimages.com/id/90066470/photo/esox-lucius-eating-pike.jpg?s=612x612&amp;w=gi&amp;k=20&amp;c=koATHXLm6ido174yPjLqesS2Eq_0ktLhNL7EpAL-jko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714240" y="2214720"/>
            <a:ext cx="763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400"/>
                </a:solidFill>
                <a:latin typeface="Arial"/>
              </a:rPr>
              <a:t>Тема: Речные рыб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786120" y="48578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400"/>
                </a:solidFill>
                <a:latin typeface="Arial"/>
              </a:rPr>
              <a:t>Тинякова Т.Ф., учитель биолог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400"/>
                </a:solidFill>
                <a:latin typeface="Arial"/>
              </a:rPr>
              <a:t>ОГБОУ «Школа №23» г.Ряза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"/>
          <p:cNvPicPr/>
          <p:nvPr/>
        </p:nvPicPr>
        <p:blipFill>
          <a:blip r:embed="rId2"/>
          <a:stretch/>
        </p:blipFill>
        <p:spPr>
          <a:xfrm>
            <a:off x="57240" y="-3492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3"/>
          <a:stretch/>
        </p:blipFill>
        <p:spPr>
          <a:xfrm>
            <a:off x="1682640" y="2448000"/>
            <a:ext cx="6121440" cy="3887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427640" y="836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7240" y="33480"/>
            <a:ext cx="90295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Щука живет в озерах и прудах со стоящей водой или  в реках с медленным течением. Щука –хищник, гроза всех рыбок в округе. Может даже скушать маленькую утку, если та будет неосторожна. Щуку не так просто обнаружить, ведь она отлично прячетс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"/>
          <p:cNvPicPr/>
          <p:nvPr/>
        </p:nvPicPr>
        <p:blipFill>
          <a:blip r:embed="rId3"/>
          <a:stretch/>
        </p:blipFill>
        <p:spPr>
          <a:xfrm>
            <a:off x="1835280" y="2043000"/>
            <a:ext cx="5727600" cy="39369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79280" y="20304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краска тела делает щуку незаметной для обитателей водоема. Щуки владеют всеми навыками слежки и внезапного нападения, они никогда не промахиваются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"/>
          <p:cNvPicPr/>
          <p:nvPr/>
        </p:nvPicPr>
        <p:blipFill>
          <a:blip r:embed="rId3"/>
          <a:stretch/>
        </p:blipFill>
        <p:spPr>
          <a:xfrm>
            <a:off x="1730520" y="2220840"/>
            <a:ext cx="6443640" cy="3330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79280" y="0"/>
            <a:ext cx="8713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Широкая пасть, по краям покрытая острыми загнутыми назад зубами, крепко держит схваченную добычу. Щука проглатывает ее целиком. В прудах, где человек разводит рыбу, соседство щуки наносит большой вред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"/>
          <p:cNvPicPr/>
          <p:nvPr/>
        </p:nvPicPr>
        <p:blipFill>
          <a:blip r:embed="rId3"/>
          <a:srcRect l="16285" t="0" r="18437" b="0"/>
          <a:stretch/>
        </p:blipFill>
        <p:spPr>
          <a:xfrm>
            <a:off x="485640" y="2071800"/>
            <a:ext cx="3595680" cy="32922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"/>
          <p:cNvPicPr/>
          <p:nvPr/>
        </p:nvPicPr>
        <p:blipFill>
          <a:blip r:embed="rId4"/>
          <a:stretch/>
        </p:blipFill>
        <p:spPr>
          <a:xfrm>
            <a:off x="4556160" y="2374920"/>
            <a:ext cx="3890880" cy="29178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324000" y="1890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нней весной, как только сойдет снег, самка щуки выметывает икринки на мелководь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" descr=""/>
          <p:cNvPicPr/>
          <p:nvPr/>
        </p:nvPicPr>
        <p:blipFill>
          <a:blip r:embed="rId3"/>
          <a:stretch/>
        </p:blipFill>
        <p:spPr>
          <a:xfrm>
            <a:off x="1908000" y="1758960"/>
            <a:ext cx="5585040" cy="3994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431640" y="374760"/>
            <a:ext cx="828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 течение всей жизни щука растет. Ее вес может достигать 35 кг и более, а возраст – 200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685800" y="0"/>
            <a:ext cx="79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Блюда из речного окуня и щ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3"/>
          <a:stretch/>
        </p:blipFill>
        <p:spPr>
          <a:xfrm>
            <a:off x="4629240" y="603360"/>
            <a:ext cx="3417840" cy="2135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"/>
          <p:cNvPicPr/>
          <p:nvPr/>
        </p:nvPicPr>
        <p:blipFill>
          <a:blip r:embed="rId4"/>
          <a:stretch/>
        </p:blipFill>
        <p:spPr>
          <a:xfrm>
            <a:off x="395280" y="614520"/>
            <a:ext cx="3691080" cy="2197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"/>
          <p:cNvPicPr/>
          <p:nvPr/>
        </p:nvPicPr>
        <p:blipFill>
          <a:blip r:embed="rId5"/>
          <a:stretch/>
        </p:blipFill>
        <p:spPr>
          <a:xfrm>
            <a:off x="760320" y="3143160"/>
            <a:ext cx="3465720" cy="23004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"/>
          <p:cNvPicPr/>
          <p:nvPr/>
        </p:nvPicPr>
        <p:blipFill>
          <a:blip r:embed="rId6"/>
          <a:stretch/>
        </p:blipFill>
        <p:spPr>
          <a:xfrm>
            <a:off x="4516560" y="3108240"/>
            <a:ext cx="35733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2627280" y="404640"/>
            <a:ext cx="37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еселая рыба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13" descr=""/>
          <p:cNvPicPr/>
          <p:nvPr/>
        </p:nvPicPr>
        <p:blipFill>
          <a:blip r:embed="rId3"/>
          <a:stretch/>
        </p:blipFill>
        <p:spPr>
          <a:xfrm>
            <a:off x="911160" y="1039680"/>
            <a:ext cx="71438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1979640" y="981000"/>
            <a:ext cx="60483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егодня на уроке я узна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 интерес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 труд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няла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перь я могу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аучил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еня получилось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Я смог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"/>
          <p:cNvSpPr/>
          <p:nvPr/>
        </p:nvSpPr>
        <p:spPr>
          <a:xfrm>
            <a:off x="324000" y="19540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400"/>
                </a:solidFill>
                <a:latin typeface="Arial"/>
              </a:rPr>
              <a:t>Источники рисунков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760" y="11430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Дидактические картинки "Речные рыбы«. Учебно-методическое пособие по окружающему миру – </a:t>
            </a:r>
            <a:r>
              <a:rPr b="0" lang="en-US" sz="16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URL</a:t>
            </a:r>
            <a:r>
              <a:rPr b="0" lang="ru-RU" sz="16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1"/>
              </a:rPr>
              <a:t>https://nsportal.ru/sites/default/files/2019/01/29/kartinki_rechnye_ryby.doc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2"/>
              </a:rPr>
              <a:t>https://fishingday.org/shhuka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3"/>
              </a:rPr>
              <a:t>https://pic.rutubelist.ru/video/db/e2/dbe2b3c1992906c705dd0d6464ac5f86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4"/>
              </a:rPr>
              <a:t>https://www.culture.ru/events/3175336/lovis-rybka-bolshaya-i-malenkaya-konkurs-yunykh-rybakov?institute=4967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5"/>
              </a:rPr>
              <a:t>https://i.pinimg.com/736x/cb/fd/81/cbfd812835cf5ee4ad0f446f40112740.j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6"/>
              </a:rPr>
              <a:t>https://i.pinimg.com/originals/45/dd/e4/45dde4b99ef3d4f3d11ea23407f636ec.jpg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7"/>
              </a:rPr>
              <a:t>https://ppt-online.org/110713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8"/>
              </a:rPr>
              <a:t>https://media.gettyimages.com/id/90066470/photo/esox-lucius-eating-pike.jpg?s=612x612&amp;w=gi&amp;k=20&amp;c=koATHXLm6ido174yPjLqesS2Eq_0ktLhNL7EpAL-jk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https://dzen.ru/a/YoNnTq1hwRNhXC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https://forum.motolodka.ru/read.php?f=2&amp;i=756443&amp;t=7564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https://kedem.ru/recipe/nyrecipe/snack/zakuska-po-shchuchemu-veleniy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https://sk.pinterest.com/pin/448389706643081430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https://kasheloff.ru/photos/uxa-iz-okunya-rechnogo/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28440" y="-5076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1" name="image21.jpeg" descr=""/>
          <p:cNvPicPr/>
          <p:nvPr/>
        </p:nvPicPr>
        <p:blipFill>
          <a:blip r:embed="rId3"/>
          <a:srcRect l="3396" t="6165" r="4071" b="26332"/>
          <a:stretch/>
        </p:blipFill>
        <p:spPr>
          <a:xfrm>
            <a:off x="179280" y="152280"/>
            <a:ext cx="3600720" cy="1947960"/>
          </a:xfrm>
          <a:prstGeom prst="rect">
            <a:avLst/>
          </a:prstGeom>
          <a:ln w="0">
            <a:noFill/>
          </a:ln>
        </p:spPr>
      </p:pic>
      <p:pic>
        <p:nvPicPr>
          <p:cNvPr id="52" name="image25.jpeg" descr=""/>
          <p:cNvPicPr/>
          <p:nvPr/>
        </p:nvPicPr>
        <p:blipFill>
          <a:blip r:embed="rId4"/>
          <a:srcRect l="14081" t="5885" r="13387" b="27022"/>
          <a:stretch/>
        </p:blipFill>
        <p:spPr>
          <a:xfrm>
            <a:off x="4792680" y="2532240"/>
            <a:ext cx="3668760" cy="2136600"/>
          </a:xfrm>
          <a:prstGeom prst="rect">
            <a:avLst/>
          </a:prstGeom>
          <a:ln w="0">
            <a:noFill/>
          </a:ln>
        </p:spPr>
      </p:pic>
      <p:pic>
        <p:nvPicPr>
          <p:cNvPr id="53" name="image27.jpeg" descr=""/>
          <p:cNvPicPr/>
          <p:nvPr/>
        </p:nvPicPr>
        <p:blipFill>
          <a:blip r:embed="rId5"/>
          <a:srcRect l="3500" t="8821" r="4015" b="26679"/>
          <a:stretch/>
        </p:blipFill>
        <p:spPr>
          <a:xfrm>
            <a:off x="4210200" y="104760"/>
            <a:ext cx="4248000" cy="2241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"/>
          <p:cNvPicPr/>
          <p:nvPr/>
        </p:nvPicPr>
        <p:blipFill>
          <a:blip r:embed="rId6"/>
          <a:srcRect l="3046" t="11717" r="0" b="10054"/>
          <a:stretch/>
        </p:blipFill>
        <p:spPr>
          <a:xfrm>
            <a:off x="179280" y="2603520"/>
            <a:ext cx="4492800" cy="21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395280" y="1198440"/>
            <a:ext cx="829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Речными (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ресн</a:t>
            </a:r>
            <a:r>
              <a:rPr b="1" i="1" lang="ru-RU" sz="2800" spc="-1" strike="noStrike" u="sng">
                <a:solidFill>
                  <a:srgbClr val="79ff79"/>
                </a:solidFill>
                <a:uFillTx/>
                <a:latin typeface="Arial"/>
              </a:rPr>
              <a:t>о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д</a:t>
            </a:r>
            <a:r>
              <a:rPr b="1" i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ыми)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называются рыбы,  вся жизнь которых проходит в </a:t>
            </a:r>
            <a:br>
              <a:rPr sz="2800"/>
            </a:br>
            <a:r>
              <a:rPr b="1" i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ресных водоем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е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зе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учьях.    </a:t>
            </a:r>
            <a:br>
              <a:rPr sz="2800"/>
            </a:b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"/>
          <p:cNvPicPr/>
          <p:nvPr/>
        </p:nvPicPr>
        <p:blipFill>
          <a:blip r:embed="rId3"/>
          <a:srcRect l="3065" t="18500" r="5633" b="14385"/>
          <a:stretch/>
        </p:blipFill>
        <p:spPr>
          <a:xfrm>
            <a:off x="314280" y="244440"/>
            <a:ext cx="3826080" cy="2104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"/>
          <p:cNvPicPr/>
          <p:nvPr/>
        </p:nvPicPr>
        <p:blipFill>
          <a:blip r:embed="rId4"/>
          <a:srcRect l="5031" t="24143" r="0" b="7886"/>
          <a:stretch/>
        </p:blipFill>
        <p:spPr>
          <a:xfrm>
            <a:off x="2970360" y="2822400"/>
            <a:ext cx="5057640" cy="2622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4413240" y="7588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Речной оку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900000" y="35719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Щу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"/>
          <p:cNvPicPr/>
          <p:nvPr/>
        </p:nvPicPr>
        <p:blipFill>
          <a:blip r:embed="rId3"/>
          <a:stretch/>
        </p:blipFill>
        <p:spPr>
          <a:xfrm>
            <a:off x="3708360" y="-11160"/>
            <a:ext cx="2232000" cy="220680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24000" y="2205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В Рязанской области речной окунь и щука водятся в реке Ока, реке Проня, в озерах Клепиковского райо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"/>
          <p:cNvPicPr/>
          <p:nvPr/>
        </p:nvPicPr>
        <p:blipFill>
          <a:blip r:embed="rId3"/>
          <a:stretch/>
        </p:blipFill>
        <p:spPr>
          <a:xfrm>
            <a:off x="900000" y="1365120"/>
            <a:ext cx="7066080" cy="405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468360" y="115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Живёт речной окунь  в озёра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и реках с чистой вод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3"/>
          <a:stretch/>
        </p:blipFill>
        <p:spPr>
          <a:xfrm>
            <a:off x="1420920" y="2082960"/>
            <a:ext cx="7027920" cy="3903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0" y="260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итается мелкими рыбёшками. Добычу подкарауливает, а потом броском настигает свою жертву. Ртом, вооружённым острыми зубами, захватывает добычу цел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"/>
          <p:cNvPicPr/>
          <p:nvPr/>
        </p:nvPicPr>
        <p:blipFill>
          <a:blip r:embed="rId3"/>
          <a:stretch/>
        </p:blipFill>
        <p:spPr>
          <a:xfrm>
            <a:off x="1692360" y="1893960"/>
            <a:ext cx="5435640" cy="36115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85800" y="33336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т врагов окуня спасает его окраска и колючий спинной плавник, который он расправляет в момент о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cc"/>
                </a:solidFill>
                <a:latin typeface="Arial"/>
              </a:rPr>
              <a:t>Речные рыбы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апаренко О.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BD07213_"/>
          <p:cNvPicPr/>
          <p:nvPr/>
        </p:nvPicPr>
        <p:blipFill>
          <a:blip r:embed="rId1"/>
          <a:stretch/>
        </p:blipFill>
        <p:spPr>
          <a:xfrm>
            <a:off x="611280" y="4508640"/>
            <a:ext cx="1503360" cy="1827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Untitled-2"/>
          <p:cNvPicPr/>
          <p:nvPr/>
        </p:nvPicPr>
        <p:blipFill>
          <a:blip r:embed="rId3"/>
          <a:stretch/>
        </p:blipFill>
        <p:spPr>
          <a:xfrm>
            <a:off x="880920" y="1920960"/>
            <a:ext cx="4738680" cy="355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os1.i.ua/3/6/1105926_6fe8dad4.jpg"/>
          <p:cNvPicPr/>
          <p:nvPr/>
        </p:nvPicPr>
        <p:blipFill>
          <a:blip r:embed="rId4"/>
          <a:stretch/>
        </p:blipFill>
        <p:spPr>
          <a:xfrm>
            <a:off x="5746680" y="1674720"/>
            <a:ext cx="3133800" cy="4707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108000" y="47628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 конце апреля самка окуня выметывает на водные растения икринки, собранные в длинные лен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7:04:44Z</dcterms:created>
  <dc:creator>Шапаренко</dc:creator>
  <dc:description/>
  <dc:language>en-US</dc:language>
  <cp:lastModifiedBy>Пользователь</cp:lastModifiedBy>
  <dcterms:modified xsi:type="dcterms:W3CDTF">2025-04-10T10:00:02Z</dcterms:modified>
  <cp:revision>27</cp:revision>
  <dc:subject/>
  <dc:title>Речные рыбы</dc:title>
</cp:coreProperties>
</file>