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9CC4-4CDC-4D6C-B763-95E0DF2C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F485-A894-4CB5-AAA2-7F6E2DFF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E1C1-9E7E-41F7-82DB-9D973555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3D8B-055B-45B8-88B9-79924F5E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B974-29AB-4A46-9560-CDA56D51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0364-9BEA-4D08-BFFF-ABD4DB27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F360-5377-4857-B1B7-20344F28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7D1E-A5C0-4D51-8B92-9E545A14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1F1F-EDD6-447B-BE7D-F06BC759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F001-BF31-48C4-8C08-594333EC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6EC0-62BB-41DC-9615-CBE5264B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EB81-97DC-402B-837B-3A6806DB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6684-3D30-4AD3-AAD5-90AC8704A5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557208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ИНФРАСТРУКТУРНЫЙ КОМПЛЕК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F:\коллажи\кол_3.jpg"/>
          <p:cNvPicPr/>
          <p:nvPr/>
        </p:nvPicPr>
        <p:blipFill>
          <a:blip r:embed="rId1"/>
          <a:stretch/>
        </p:blipFill>
        <p:spPr>
          <a:xfrm>
            <a:off x="214200" y="142920"/>
            <a:ext cx="87156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Инфраструктура -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Строение, расположение (лат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вокупность сооружений, зданий, систем и служб, необходимых   для нормального функционирования и обеспечения повседневной жизни насел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  <a:ea typeface="Arial"/>
              </a:rPr>
              <a:t>Цели и задач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звить понятие «инфраструктуры»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формировать представление о составе инфраструктурного комплекс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пределить значение транспорт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зучить состав транспорт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знакомиться с показателями работы транспор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E:\Мама\img2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591192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142920" y="6215040"/>
            <a:ext cx="90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остоит из отраслей, производящих услуг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  <a:ea typeface="Arial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§ 3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пережающие зад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группа. Изучить сухопутный транспор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 группа. Изучить морской транспор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 группа. Изучить воздушный транспор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ставить коллаж (творческое задание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21:57:45Z</dcterms:created>
  <dc:creator>Lussia</dc:creator>
  <dc:description/>
  <dc:language>en-US</dc:language>
  <cp:lastModifiedBy>География</cp:lastModifiedBy>
  <dcterms:modified xsi:type="dcterms:W3CDTF">2014-01-29T07:43:51Z</dcterms:modified>
  <cp:revision>9</cp:revision>
  <dc:subject/>
  <dc:title>Антарктида</dc:title>
</cp:coreProperties>
</file>